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D0B-AB4E-4DF9-A91D-96DF81F8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C443-865E-4B13-9080-B53492D0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3D4-ECE4-43EA-97EC-A03E6FA0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586-6D1C-4919-B1AF-6F91E761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E414-84C3-47A9-8821-963D2A60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7343-9D49-4331-8406-DCF2B3B7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E605-9F6F-4C73-9F7F-58DBBAB8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D346-01CB-4F6A-8AEC-63E2AC4F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6732-3815-4A3C-BE3B-38F3508A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F298-0F2F-4EA9-B816-A3423E6B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07C4-8CBA-4B32-9A55-8B4561E3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DF2-F5AA-404C-8DC6-A4E27D14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EA3A-0279-4A57-BC42-E25E326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3C0C-6A6A-41C9-8D7B-E3170D2D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1785-538F-4128-8A8D-1CF0622C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C984-7AF4-4C26-952E-CB27B1F2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9967-0447-44B8-B170-F671E290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7CB-2A5A-470B-85FB-4B098760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77B-3128-4A0B-BDAF-B3FA225D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A4C-3583-450E-82D8-D26DFA52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3C5-0522-46DD-B19D-04919C61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503-9E0D-41EB-A685-C8BADE3C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A66-5789-4FEE-A381-BAE58ED6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BAC-2803-482C-B667-92E79B4E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4222-F20A-4CF2-9E70-B2CD3B75FEB8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EE42-1EEC-4A9A-A266-028C03B2E4F8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0066"/>
                </a:solidFill>
                <a:latin typeface="Arial"/>
                <a:ea typeface="SimSun"/>
              </a:rPr>
              <a:t>Diseño e implementación de una aplicación Web J2EE con arquitectura MVC. Caso de estudio: sitio Web de apuestas deportiva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:   Antonio Fernández Zarag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:   Manuel Álvarez Dí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6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anagrama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1419120" cy="905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19440" y="5228640"/>
            <a:ext cx="228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badi MT Condensed Extra Bold"/>
                <a:ea typeface="SimSun"/>
              </a:rPr>
              <a:t>UNIVERSIDADE DA CORUÑ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SimSun"/>
              </a:rPr>
              <a:t>FACULTADE DE INFORMÁ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71520" y="2562120"/>
            <a:ext cx="6600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quitectura general siguiendo el patrón Modelo Vista Control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stema 1 principal. Implementación de las capas modelo, vista y controlad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stema 2. Facilita la implementación de las capas de subsistema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147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3) Capa Mode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achadas: Patrónes Session Facade y Bussiness Deleg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os de dominio: Patrones DAO y 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4) Capa Mode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229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5) Capa control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trón Front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truts nos proporciona una implementación del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Servlet Front Controll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6) Capa Control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35200" y="2343240"/>
            <a:ext cx="5695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7) Capa Vis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áginas limpias, ausencia código Ja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XHTML y librerías standard JST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brerías d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les de Apach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ilos C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7) Capa Vist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54468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ueb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erramienta J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uebas de unidad de las fachadas del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junto de aser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Índ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nologías utiliz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men y 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ue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os desarrol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ha creado una  completa aplicación Web J2EE con arquitectura MVC tal y como se había propues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aplicación permite realizar todas las funcionalidades planteadas como requisi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han cumplido los objetivos particulares de aprendizaje de las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turos desarroll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 de transacciones co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guridad en transmisión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 interfaz grá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s en la variedad de apuestas y deportes ofrecidos a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Cuotas de apuestas variable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mostr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as funcionalidades del administ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as funcionalidades de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gunt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El negocio de las apuestas ha encontrado en Internet un socio ideal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Las casas de apuestas en Internet facilitan a sus usuarios un sistema sencillo y divertido para apostar en los eventos deportivos de mayor trascendenci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men y 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licación destinada a la realización de a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ite realizar apuestas simples y combina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ulta y gestión de información de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ilidad de consulta de historial de apuestas y movimientos financi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rcionar información depor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a gestión por parte de administ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nologías utilizad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junto de especificaciones J2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amework Apach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torno de desarrollo: Eclipse y Maven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odolog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realizado en iter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da iteración: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análisis, diseño, implementación, prue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Metodología similar a Proceso Unifi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095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os de uso de la apli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12720" y="1719360"/>
            <a:ext cx="61167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23840" y="2028960"/>
            <a:ext cx="70963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9:36:44Z</dcterms:created>
  <dc:creator>AFZ</dc:creator>
  <dc:description/>
  <dc:language>en-US</dc:language>
  <cp:lastModifiedBy>AFZ</cp:lastModifiedBy>
  <dcterms:modified xsi:type="dcterms:W3CDTF">2007-07-13T08:41:58Z</dcterms:modified>
  <cp:revision>27</cp:revision>
  <dc:subject/>
  <dc:title>Diseño e implementación de una aplicación Web J2EE con arquitectura MVC. Caso de estudio: sitio Web de apuestas deportivas</dc:title>
</cp:coreProperties>
</file>