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7F44-D629-4F25-9350-5664BD34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DCD6-02A9-463A-8236-71CC8814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3A43-6784-4899-BB80-4F706A255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3C05-7AC8-4B42-913D-B3887091D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8586-9C8F-4BB0-BFCE-ADB31B7E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30E2-E97B-4597-BC08-0DC988E2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1650-36DD-4138-A837-49989883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0B4D-63F0-4C14-B5F4-62B619F5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8ED6-96B2-424B-98CD-604873B5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2969-C233-4DDF-8C2C-0E9D8CAD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3B8E-5E11-4553-82B2-FF00FF1A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F381-C818-4AF8-A1B6-403A62BF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5E9B-12BC-46A1-8737-4100617A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EBCF-8D42-49C8-B132-77878C7E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965E-539E-406C-B652-DC8516CB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27D3-CE92-420C-BD8B-4540FB7B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4C27-A0F8-4D4F-8382-D2B8957FE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2617-6A0C-4DAB-BDD3-6FE57DD3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EB60-EAB7-4DBF-90F5-C38BF37F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DBEF-BFA5-431A-A1D3-1577F153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E0C7-634E-4BC7-B456-F1DDA949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A229-E17E-4CFC-B7E5-B5828835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7161-0A29-4241-A989-1FC4CD21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446F-70D3-4E32-B77A-ECA3AAB9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828E-3D7A-4377-80D4-667EE88FFB88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B3CA-EC2F-487C-ADC3-519A1DD0DE9C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0066"/>
                </a:solidFill>
                <a:latin typeface="Arial"/>
                <a:ea typeface="SimSun"/>
              </a:rPr>
              <a:t>Diseño e implementación de una aplicación Web J2EE con arquitectura MVC. Caso de estudio: sitio Web de apuestas deportiva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r:   Antonio Fernández Zarago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tor:   Manuel Álvarez Dí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68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anagrama" descr=""/>
          <p:cNvPicPr/>
          <p:nvPr/>
        </p:nvPicPr>
        <p:blipFill>
          <a:blip r:embed="rId1"/>
          <a:stretch/>
        </p:blipFill>
        <p:spPr>
          <a:xfrm>
            <a:off x="3348000" y="4149720"/>
            <a:ext cx="1419120" cy="905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719440" y="5228640"/>
            <a:ext cx="2285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badi MT Condensed Extra Bold"/>
                <a:ea typeface="SimSun"/>
              </a:rPr>
              <a:t>UNIVERSIDADE DA CORUÑ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SimSun"/>
              </a:rPr>
              <a:t>FACULTADE DE INFORMÁT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álisis (4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271520" y="2562120"/>
            <a:ext cx="660096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eñ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quitectura general siguiendo el patrón Modelo Vista Control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sistema 1 principal. Implementación de las capas modelo, vista y controlad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sistema 2. Facilita la implementación de las capas de subsistema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eño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627280" y="2205000"/>
            <a:ext cx="36147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eño (3) Capa Model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Fachadas: Patrónes Session Facade y Bussiness Deleg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bjetos de dominio: Patrones DAO y 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eño (4) Capa Model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82296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eño (5) Capa controlad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atrón Front Control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truts nos proporciona una implementación del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SimSun"/>
              </a:rPr>
              <a:t>Servlet Front Controlle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eño (6) Capa Controlad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735200" y="2343240"/>
            <a:ext cx="56959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eño (7) Capa Vis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áginas limpias, ausencia código Ja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XHTML y librerías standard JST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ibrerías de Str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iles de Apache Str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tilos C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eño (7) Capa Vista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544680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ueb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Herramienta JUn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uebas de unidad de las fachadas del mode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njunto de aser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Índi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cnologías utilizad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men y obje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ueb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os desarroll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clusi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 ha creado una  completa aplicación Web J2EE con arquitectura MVC tal y como se había propues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aplicación permite realizar todas las funcionalidades planteadas como requisi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 han cumplido los objetivos particulares de aprendizaje de las tecnologías utilizad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turos desarroll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ejora de transacciones con la base de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eguridad en transmisión de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ejora interfaz gráf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ejoras en la variedad de apuestas y deportes ofrecidos al usua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SimSun"/>
              </a:rPr>
              <a:t>Cuotas de apuestas variables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mostr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gunas funcionalidades del administr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gunas funcionalidades del usua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egunt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roduc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SimSun"/>
              </a:rPr>
              <a:t>El negocio de las apuestas ha encontrado en Internet un socio ideal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SimSun"/>
              </a:rPr>
              <a:t>Las casas de apuestas en Internet facilitan a sus usuarios un sistema sencillo y divertido para apostar en los eventos deportivos de mayor trascendencia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umen y objetiv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licación destinada a la realización de apues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mite realizar apuestas simples y combinad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ulta y gestión de información del usua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bilidad de consulta de historial de apuestas y movimientos financie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rcionar información depor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a gestión por parte de administr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cnologías utilizad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njunto de especificaciones J2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Framework Apache Str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ntorno de desarrollo: Eclipse y Maven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todologí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ceso realizado en itera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ada iteración: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SimSun"/>
              </a:rPr>
              <a:t>análisis, diseño, implementación, prueb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SimSun"/>
              </a:rPr>
              <a:t>Metodología similar a Proceso Unific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826920" y="4076640"/>
            <a:ext cx="3095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álisi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sos de uso de la aplic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álisis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12720" y="1719360"/>
            <a:ext cx="611676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álisis (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023840" y="2028960"/>
            <a:ext cx="709632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09:36:44Z</dcterms:created>
  <dc:creator>AFZ</dc:creator>
  <dc:description/>
  <dc:language>en-US</dc:language>
  <cp:lastModifiedBy>AFZ</cp:lastModifiedBy>
  <dcterms:modified xsi:type="dcterms:W3CDTF">2007-07-13T08:41:58Z</dcterms:modified>
  <cp:revision>27</cp:revision>
  <dc:subject/>
  <dc:title>Diseño e implementación de una aplicación Web J2EE con arquitectura MVC. Caso de estudio: sitio Web de apuestas deportivas</dc:title>
</cp:coreProperties>
</file>